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ABD-AC7D-470E-8654-88EE4681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39F-6D88-49AC-BBF0-0EDF7347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3CC-188E-4CC6-89EE-FD3470BA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87B-1CBA-4D02-9087-0CB3B2C4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CD9-12AD-4FEE-BB4E-9956A0B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9E3-EC01-471F-9394-0FEFC546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A08-0448-4415-BC83-979F7FBB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5C1-414B-4D9C-92A8-CB40A345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077-9103-4A53-8736-04097E3B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2E5-8B8A-4019-95E0-6D1BD436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96B-2200-40E4-8FB3-ED0606CD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A82-766D-456A-B8F9-6A47D2C9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A405-EC40-423B-82D4-EC230DB84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 31: Sec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Civil R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238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3124440" cy="210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43400" y="2514600"/>
            <a:ext cx="4000680" cy="3962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3095640" cy="3962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1263600" cy="1905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4120" y="457200"/>
            <a:ext cx="344484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Andy Warhol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Pop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75880" y="2438280"/>
            <a:ext cx="7246080" cy="2288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0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MLK Jr. is assassinat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 the Civil Rights Movement o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firmative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914400"/>
            <a:ext cx="8458200" cy="5639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vil Rights Act 19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ederal law mak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ion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orities still did not have equal access to job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65, LBJ = Affirmative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nies doing business with the government must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ly recru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African Americans (later would include other minorities and wo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d affirmative action work?  Was it a good 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firmative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066680"/>
            <a:ext cx="8458200" cy="4923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Gill Sans Ultra Bold"/>
              </a:rPr>
              <a:t>How it can be go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3 = Atlanta G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. Am.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ynard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 Am pop in ATL = 50%, working on government contracts? Only 1%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son used Affirmative Action to push companies to hire more Af. Ams.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5%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firmative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066680"/>
            <a:ext cx="8458200" cy="5198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Gill Sans Ultra Bold"/>
              </a:rPr>
              <a:t>How it can be b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9, Nixon = companies “must show” affirmative action…how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al Quota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verse Discrim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versity of California Regent v. Allan Bak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an Bak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hite student, applied to med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= deni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finds out that the school had racial quotas, meant that minority students with lower test scores were getting in just because of their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819520" y="914400"/>
            <a:ext cx="3338280" cy="4940280"/>
            <a:chOff x="2819520" y="914400"/>
            <a:chExt cx="3338280" cy="49402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819520" y="914400"/>
              <a:ext cx="3338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5029200"/>
              <a:ext cx="190512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Ultra Bold"/>
                </a:rPr>
                <a:t>Maynard Jacks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133720" y="1143000"/>
            <a:ext cx="4419360" cy="4193640"/>
            <a:chOff x="2133720" y="1143000"/>
            <a:chExt cx="4419360" cy="419364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133720" y="1143000"/>
              <a:ext cx="4419360" cy="34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504960" y="4876920"/>
              <a:ext cx="190476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Ultra Bold"/>
                </a:rPr>
                <a:t>Allan Bak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1066680"/>
            <a:ext cx="6858000" cy="5245200"/>
            <a:chOff x="990720" y="1066680"/>
            <a:chExt cx="6858000" cy="524520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990720" y="1066680"/>
              <a:ext cx="6858000" cy="40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276720" y="5486400"/>
              <a:ext cx="304812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Ultra Bold"/>
                </a:rPr>
                <a:t>Protest of the Bakke C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nt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6250" t="26000" r="44377" b="17998"/>
          <a:stretch/>
        </p:blipFill>
        <p:spPr>
          <a:xfrm>
            <a:off x="304920" y="838080"/>
            <a:ext cx="86104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nt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066680"/>
            <a:ext cx="8458200" cy="5487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nt Wor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avels farm-to-farm fo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igures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MT"/>
              </a:rPr>
              <a:t>Cesar Chavez &amp; Dolores Hu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ted Farm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migrant workers were guaranteed pay for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!..but it did not come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y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ape Boy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ced farm employ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ork with the u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48520" y="3505320"/>
            <a:ext cx="21891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209680"/>
            <a:ext cx="57150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 31: Sec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60s Environmentalism &amp; Consume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77120" y="533520"/>
            <a:ext cx="2181240" cy="6038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676520"/>
            <a:ext cx="7696080" cy="27853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In the 1960s people started to realize that some consumer products were unsafe and/or wast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828800"/>
            <a:ext cx="7696440" cy="27853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In the 1960s people started to realize that the environment was deterio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286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60s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838080"/>
            <a:ext cx="8458200" cy="276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Rachel Cars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wrote “Silent Spring”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ll about how the pesticid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DD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as killing all the bi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DDT Ban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Three Mile Isla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Harrisburg P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uclear plant leaked radiation! Town had to evacua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push for stricter plant insp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86200"/>
            <a:ext cx="7543800" cy="4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60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Consume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572000"/>
            <a:ext cx="8458200" cy="199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Ralph Nade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wrote “Unsafe at Any Speed”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y 1990 all cars had to have airba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Andy Warho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famous POP Arti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 Art = focused on popular cultural i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23:23:29Z</dcterms:created>
  <dc:creator>Administrator</dc:creator>
  <dc:description/>
  <dc:language>en-US</dc:language>
  <cp:lastModifiedBy>IT Department</cp:lastModifiedBy>
  <dcterms:modified xsi:type="dcterms:W3CDTF">2011-04-25T22:13:02Z</dcterms:modified>
  <cp:revision>9</cp:revision>
  <dc:subject/>
  <dc:title>Ch 31: Sec 3 Fighting for Greater Opportunity</dc:title>
</cp:coreProperties>
</file>